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DBCC3-453D-4F24-89F0-06D8A7C9A9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8993E-8F91-418D-AB3E-8D16F9C0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7FE17-C9D9-4E11-8EBC-E1BA6C2D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FCE4-7B05-455A-AE9C-98C456F211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7EF5-6AC5-4F3D-8641-DE694B67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37EC-6B54-4FE6-8A61-24D523B7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EA96-E419-4BB2-BE29-3B2613CF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F18F2-D223-4DFA-913D-1625077E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098D-4B57-4DBF-A0D2-6A19D29F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2EC7-E64D-490D-A44B-9FA83B45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B2F7-20EA-4616-8600-07AA9609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AF52-12BE-43CF-80F4-E3CE8FA4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D9FE-02E9-4259-AABE-891BD2B7F7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9280" y="299700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　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第十一节  恶心与呕吐</a:t>
            </a:r>
            <a:r>
              <a:rPr b="0" lang="zh-CN" sz="3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Verdana"/>
                <a:ea typeface="华文新魏"/>
              </a:rPr>
              <a:t>相关护理问题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体液不足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体液不足的危险：与呕吐引起体液丧失及摄入量减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营养失调：低于机体需要量 与长期呕吐和食物摄入量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潜在并发症：窒息；肺部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恶心、呕吐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吐的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恶心、呕吐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描述恶心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不同类型的呕吐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恶心、呕吐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与呕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2487240"/>
            <a:ext cx="861048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为上腹不适，紧迫欲呕吐的感觉并伴有迷走神经兴奋的症状，如皮肤苍白、出汗、流涎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呕吐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是胃或小肠的内容物，通过食管逆流经口腔而排出体外的现象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WordArt 4" descr=""/>
          <p:cNvPicPr/>
          <p:nvPr/>
        </p:nvPicPr>
        <p:blipFill>
          <a:blip r:embed="rId1"/>
          <a:stretch/>
        </p:blipFill>
        <p:spPr>
          <a:xfrm>
            <a:off x="5864400" y="1427040"/>
            <a:ext cx="2127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1187280" y="3213000"/>
            <a:ext cx="2376720" cy="647640"/>
          </a:xfrm>
          <a:prstGeom prst="ellipse">
            <a:avLst/>
          </a:prstGeom>
          <a:gradFill rotWithShape="0">
            <a:gsLst>
              <a:gs pos="0">
                <a:srgbClr val="99669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Verdana"/>
              </a:rPr>
              <a:t>延髓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呕吐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572000" y="2205000"/>
            <a:ext cx="2087640" cy="792360"/>
          </a:xfrm>
          <a:prstGeom prst="flowChartDocumen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神经反射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(</a:t>
            </a: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呕吐中枢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427640" y="4076640"/>
            <a:ext cx="2232000" cy="64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化学感受器触发带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067280" y="2565360"/>
            <a:ext cx="0" cy="18716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067280" y="256536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4067280" y="4437000"/>
            <a:ext cx="36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564000" y="3500280"/>
            <a:ext cx="5032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356000" y="5300640"/>
            <a:ext cx="32403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接受各种外来的化学物质或药物的刺激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吗啡、洋地黄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内生代谢产物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酸中毒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5651640" y="4724280"/>
            <a:ext cx="72720" cy="576360"/>
          </a:xfrm>
          <a:prstGeom prst="upArrow">
            <a:avLst>
              <a:gd name="adj1" fmla="val 50000"/>
              <a:gd name="adj2" fmla="val 198144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6661080" y="2565360"/>
            <a:ext cx="144360" cy="1727280"/>
          </a:xfrm>
          <a:custGeom>
            <a:avLst/>
            <a:gdLst>
              <a:gd name="textAreaLeft" fmla="*/ 0 w 144360"/>
              <a:gd name="textAreaRight" fmla="*/ 123840 w 144360"/>
              <a:gd name="textAreaTop" fmla="*/ 115164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46ca6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019560" y="2852640"/>
            <a:ext cx="606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引发神经冲动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7020000" y="1989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接受来自消化道、大脑皮质、前庭及化学感受器触发带的传入冲动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6659640" y="2276640"/>
            <a:ext cx="504720" cy="72720"/>
          </a:xfrm>
          <a:prstGeom prst="leftArrow">
            <a:avLst>
              <a:gd name="adj1" fmla="val 50000"/>
              <a:gd name="adj2" fmla="val 173515"/>
            </a:avLst>
          </a:prstGeom>
          <a:solidFill>
            <a:srgbClr val="046ca6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消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211640" y="1908000"/>
            <a:ext cx="45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口咽刺激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胃肠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胃肠炎、幽门梗阻、肠梗阻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肝、胆、胰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肝炎、急性胆囊炎、急性胰腺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腹膜及肠系膜疾病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腹膜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284720" y="3789360"/>
            <a:ext cx="44640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泌尿系统及生殖系统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泌尿系统结石、肾绞痛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心血管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心肌梗死、休克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眼部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青光眼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急性传染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826920" y="12682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反射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中枢神经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药物或化学毒物的作用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抗生素、抗癌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：妊娠、代谢障碍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酸中毒、尿毒症等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精神因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癔症、神经性厌食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932360" y="1628640"/>
            <a:ext cx="280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中枢神经感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脑内血管疾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脑损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内占位性病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971640" y="15573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中枢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与进食的关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物的性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3640" y="155736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晨起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妊娠、尿毒症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晚上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140360" y="2565360"/>
            <a:ext cx="43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即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精神性厌食、食物中毒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较久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916360" y="37180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颅内高压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多无恶心，喷射性呕吐，伴头痛或意识障碍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419640" y="4653000"/>
            <a:ext cx="511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发酵、腐败气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小肠梗阻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低位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: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粪臭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高位：呕吐频繁、量多，含胆汁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zh-CN" sz="3200" spc="-1" strike="noStrike">
                <a:solidFill>
                  <a:srgbClr val="969696"/>
                </a:solidFill>
                <a:latin typeface="Verdana"/>
              </a:rPr>
              <a:t>注意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注意区分呕吐和返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发生的时间和诱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的次数和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物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与进食的关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2627280" y="189000"/>
            <a:ext cx="5940360" cy="2736720"/>
          </a:xfrm>
          <a:prstGeom prst="wedgeRoundRectCallout">
            <a:avLst>
              <a:gd name="adj1" fmla="val -38643"/>
              <a:gd name="adj2" fmla="val 4936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妊娠呕吐：早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幽门梗阻：夜晚或凌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食物中毒：不洁饮食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药物性呕吐：有用药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神经官能症：厌恶食物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胃源性：与进食有关，呕吐后轻松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1042920" y="2060640"/>
            <a:ext cx="7561440" cy="2305080"/>
          </a:xfrm>
          <a:prstGeom prst="wedgeRoundRectCallout">
            <a:avLst>
              <a:gd name="adj1" fmla="val -16805"/>
              <a:gd name="adj2" fmla="val 5151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发酵、腐败气味提示胃潴留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粪臭味提示低位小肠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胆汁说明梗阻在十二指肠乳头以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有大量酸性液体提示胃泌素瘤或溃疡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826920" y="1557360"/>
            <a:ext cx="8317080" cy="2592360"/>
          </a:xfrm>
          <a:prstGeom prst="wedgeRoundRectCallout">
            <a:avLst>
              <a:gd name="adj1" fmla="val -22893"/>
              <a:gd name="adj2" fmla="val 8178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进食过程中或餐后即刻呕吐为精神性或幽门管溃疡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较长时间或数餐后呕吐提示幽门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近期发生、集体发病提示食物中毒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Verdana"/>
                <a:ea typeface="华文新魏"/>
              </a:rPr>
              <a:t>问诊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有无与恶心、呕吐相关的疾病和诱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呕吐的特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恶心、呕吐对功能型态的影响；水电解质紊乱、营养不良、窒息或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诊断、治疗及护理经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3:27:33Z</dcterms:created>
  <dc:creator>yi</dc:creator>
  <dc:description/>
  <cp:keywords/>
  <dc:language>en-US</dc:language>
  <cp:lastModifiedBy>赵欣</cp:lastModifiedBy>
  <cp:lastPrinted>1899-12-30T00:00:00Z</cp:lastPrinted>
  <dcterms:modified xsi:type="dcterms:W3CDTF">2015-12-16T07:57:00Z</dcterms:modified>
  <cp:revision>46</cp:revision>
  <dc:subject/>
  <dc:title>症状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